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03DE-A06A-4EC9-B550-25424FCB86A4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FF4B-3B3E-4642-BE2E-2911404E233E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65F1-2411-4841-945B-A7F85568A52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86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7-3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磁场 磁感应强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4429080" y="857160"/>
            <a:ext cx="4267080" cy="1847880"/>
            <a:chOff x="4429080" y="857160"/>
            <a:chExt cx="4267080" cy="1847880"/>
          </a:xfrm>
        </p:grpSpPr>
        <p:sp>
          <p:nvSpPr>
            <p:cNvPr id="271" name="Rectangle 4"/>
            <p:cNvSpPr/>
            <p:nvPr/>
          </p:nvSpPr>
          <p:spPr>
            <a:xfrm>
              <a:off x="4429080" y="857160"/>
              <a:ext cx="42670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带电粒子在磁场中沿其他方向运动时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Arial"/>
                </a:rPr>
                <a:t>垂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于     与特定直线所组成的平面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Object 3"/>
                <p:cNvSpPr txBox="1"/>
                <p:nvPr/>
              </p:nvSpPr>
              <p:spPr>
                <a:xfrm>
                  <a:off x="7869240" y="1533240"/>
                  <a:ext cx="53352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Object 4"/>
                <p:cNvSpPr txBox="1"/>
                <p:nvPr/>
              </p:nvSpPr>
              <p:spPr>
                <a:xfrm>
                  <a:off x="5869080" y="2112840"/>
                  <a:ext cx="38556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Rectangle 7"/>
          <p:cNvSpPr/>
          <p:nvPr/>
        </p:nvSpPr>
        <p:spPr>
          <a:xfrm>
            <a:off x="4500720" y="3429000"/>
            <a:ext cx="4330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带电粒子在磁场中垂直于此特定直线运动时受力最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9"/>
              <p:cNvSpPr txBox="1"/>
              <p:nvPr/>
            </p:nvSpPr>
            <p:spPr>
              <a:xfrm>
                <a:off x="755640" y="5495760"/>
                <a:ext cx="180036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6" name="Group 15"/>
          <p:cNvGrpSpPr/>
          <p:nvPr/>
        </p:nvGrpSpPr>
        <p:grpSpPr>
          <a:xfrm>
            <a:off x="4932360" y="5207040"/>
            <a:ext cx="3975120" cy="1008000"/>
            <a:chOff x="4932360" y="5207040"/>
            <a:chExt cx="3975120" cy="1008000"/>
          </a:xfrm>
        </p:grpSpPr>
        <mc:AlternateContent>
          <mc:Choice xmlns:a14="http://schemas.microsoft.com/office/drawing/2010/main" Requires="a14">
            <p:sp>
              <p:nvSpPr>
                <p:cNvPr id="277" name="Object 11"/>
                <p:cNvSpPr txBox="1"/>
                <p:nvPr/>
              </p:nvSpPr>
              <p:spPr>
                <a:xfrm>
                  <a:off x="4932360" y="5207040"/>
                  <a:ext cx="68256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r>
                            <m:t xml:space="preserve">qv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8" name="Text Box 12"/>
            <p:cNvSpPr/>
            <p:nvPr/>
          </p:nvSpPr>
          <p:spPr>
            <a:xfrm>
              <a:off x="5508360" y="5567400"/>
              <a:ext cx="339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大小与        无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Object 13"/>
                <p:cNvSpPr txBox="1"/>
                <p:nvPr/>
              </p:nvSpPr>
              <p:spPr>
                <a:xfrm>
                  <a:off x="6732360" y="5638680"/>
                  <a:ext cx="5778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0" name="Object 14"/>
              <p:cNvSpPr txBox="1"/>
              <p:nvPr/>
            </p:nvSpPr>
            <p:spPr>
              <a:xfrm>
                <a:off x="2916360" y="5423040"/>
                <a:ext cx="16984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∝</m:t>
                    </m:r>
                    <m:r>
                      <m:t xml:space="preserve">q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1" name="ShockwaveFlash1"/>
          <p:cNvGraphicFramePr/>
          <p:nvPr/>
        </p:nvGraphicFramePr>
        <p:xfrm>
          <a:off x="395280" y="1268280"/>
          <a:ext cx="35892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35892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14"/>
          <p:cNvGrpSpPr/>
          <p:nvPr/>
        </p:nvGrpSpPr>
        <p:grpSpPr>
          <a:xfrm>
            <a:off x="714240" y="857160"/>
            <a:ext cx="7868880" cy="1710360"/>
            <a:chOff x="714240" y="857160"/>
            <a:chExt cx="7868880" cy="1710360"/>
          </a:xfrm>
        </p:grpSpPr>
        <p:sp>
          <p:nvSpPr>
            <p:cNvPr id="284" name="Rectangle 3"/>
            <p:cNvSpPr/>
            <p:nvPr/>
          </p:nvSpPr>
          <p:spPr>
            <a:xfrm>
              <a:off x="714240" y="865080"/>
              <a:ext cx="781812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方向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当正电荷垂直于 特定直线运动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受力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将            在磁场中的方向定义为该点的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方向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运动电荷不受力时的运动方向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.   </a:t>
              </a: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Object 4"/>
                <p:cNvSpPr txBox="1"/>
                <p:nvPr/>
              </p:nvSpPr>
              <p:spPr>
                <a:xfrm>
                  <a:off x="7260120" y="1411560"/>
                  <a:ext cx="467280" cy="48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6" name="Object 5"/>
                <p:cNvSpPr txBox="1"/>
                <p:nvPr/>
              </p:nvSpPr>
              <p:spPr>
                <a:xfrm>
                  <a:off x="7850520" y="857160"/>
                  <a:ext cx="7326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6"/>
                <p:cNvSpPr txBox="1"/>
                <p:nvPr/>
              </p:nvSpPr>
              <p:spPr>
                <a:xfrm>
                  <a:off x="1465560" y="1411560"/>
                  <a:ext cx="1075680" cy="62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×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Object 9"/>
              <p:cNvSpPr txBox="1"/>
              <p:nvPr/>
            </p:nvSpPr>
            <p:spPr>
              <a:xfrm>
                <a:off x="2022480" y="2760840"/>
                <a:ext cx="1584360" cy="10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q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Rectangle 10"/>
          <p:cNvSpPr/>
          <p:nvPr/>
        </p:nvSpPr>
        <p:spPr>
          <a:xfrm>
            <a:off x="820800" y="269064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1143000" y="216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 感 强 度    的 定 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21"/>
          <p:cNvGrpSpPr/>
          <p:nvPr/>
        </p:nvGrpSpPr>
        <p:grpSpPr>
          <a:xfrm>
            <a:off x="900000" y="4221000"/>
            <a:ext cx="4243320" cy="1897200"/>
            <a:chOff x="900000" y="4221000"/>
            <a:chExt cx="4243320" cy="1897200"/>
          </a:xfrm>
        </p:grpSpPr>
        <p:sp>
          <p:nvSpPr>
            <p:cNvPr id="292" name="Text Box 16"/>
            <p:cNvSpPr/>
            <p:nvPr/>
          </p:nvSpPr>
          <p:spPr>
            <a:xfrm>
              <a:off x="900000" y="4221000"/>
              <a:ext cx="245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单位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特斯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Object 17"/>
                <p:cNvSpPr txBox="1"/>
                <p:nvPr/>
              </p:nvSpPr>
              <p:spPr>
                <a:xfrm>
                  <a:off x="1672920" y="4740120"/>
                  <a:ext cx="266220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/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m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Text Box 19"/>
            <p:cNvSpPr/>
            <p:nvPr/>
          </p:nvSpPr>
          <p:spPr>
            <a:xfrm>
              <a:off x="1018800" y="551808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高   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Object 20"/>
                <p:cNvSpPr txBox="1"/>
                <p:nvPr/>
              </p:nvSpPr>
              <p:spPr>
                <a:xfrm>
                  <a:off x="2360520" y="5576760"/>
                  <a:ext cx="2782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G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3135240" y="216000"/>
                <a:ext cx="5572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7" name="ShockwaveFlash1"/>
          <p:cNvGraphicFramePr/>
          <p:nvPr/>
        </p:nvGraphicFramePr>
        <p:xfrm>
          <a:off x="5075280" y="2546280"/>
          <a:ext cx="37339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5280" y="2546280"/>
                    <a:ext cx="3733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5"/>
          <p:cNvGrpSpPr/>
          <p:nvPr/>
        </p:nvGrpSpPr>
        <p:grpSpPr>
          <a:xfrm>
            <a:off x="744480" y="1054080"/>
            <a:ext cx="3756240" cy="3095640"/>
            <a:chOff x="744480" y="1054080"/>
            <a:chExt cx="3756240" cy="3095640"/>
          </a:xfrm>
        </p:grpSpPr>
        <p:sp>
          <p:nvSpPr>
            <p:cNvPr id="300" name="Rectangle 6"/>
            <p:cNvSpPr/>
            <p:nvPr/>
          </p:nvSpPr>
          <p:spPr>
            <a:xfrm>
              <a:off x="744480" y="1054080"/>
              <a:ext cx="3756240" cy="30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7"/>
            <p:cNvSpPr/>
            <p:nvPr/>
          </p:nvSpPr>
          <p:spPr>
            <a:xfrm flipV="1">
              <a:off x="2124000" y="1690560"/>
              <a:ext cx="0" cy="1548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8"/>
            <p:cNvSpPr/>
            <p:nvPr/>
          </p:nvSpPr>
          <p:spPr>
            <a:xfrm flipH="1">
              <a:off x="1511280" y="3238560"/>
              <a:ext cx="612720" cy="5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2124000" y="3238560"/>
              <a:ext cx="1303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0"/>
            <p:cNvSpPr/>
            <p:nvPr/>
          </p:nvSpPr>
          <p:spPr>
            <a:xfrm>
              <a:off x="1971720" y="3057480"/>
              <a:ext cx="306360" cy="363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d8d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1972800" y="296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12"/>
                <p:cNvSpPr txBox="1"/>
                <p:nvPr/>
              </p:nvSpPr>
              <p:spPr>
                <a:xfrm>
                  <a:off x="1628640" y="2997360"/>
                  <a:ext cx="2793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13"/>
                <p:cNvSpPr txBox="1"/>
                <p:nvPr/>
              </p:nvSpPr>
              <p:spPr>
                <a:xfrm>
                  <a:off x="1258920" y="3656160"/>
                  <a:ext cx="26352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14"/>
                <p:cNvSpPr txBox="1"/>
                <p:nvPr/>
              </p:nvSpPr>
              <p:spPr>
                <a:xfrm>
                  <a:off x="3406680" y="2927520"/>
                  <a:ext cx="38916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15"/>
                <p:cNvSpPr txBox="1"/>
                <p:nvPr/>
              </p:nvSpPr>
              <p:spPr>
                <a:xfrm>
                  <a:off x="2052720" y="1197000"/>
                  <a:ext cx="64764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pic>
          <p:nvPicPr>
            <p:cNvPr id="310" name="Picture 16" descr="wltx1"/>
            <p:cNvPicPr/>
            <p:nvPr/>
          </p:nvPicPr>
          <p:blipFill>
            <a:blip r:embed="rId1"/>
            <a:stretch/>
          </p:blipFill>
          <p:spPr>
            <a:xfrm>
              <a:off x="2496960" y="2048040"/>
              <a:ext cx="1138320" cy="80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Text Box 17"/>
          <p:cNvSpPr/>
          <p:nvPr/>
        </p:nvSpPr>
        <p:spPr>
          <a:xfrm>
            <a:off x="4556160" y="1481040"/>
            <a:ext cx="45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动电荷在磁场中受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8"/>
              <p:cNvSpPr txBox="1"/>
              <p:nvPr/>
            </p:nvSpPr>
            <p:spPr>
              <a:xfrm>
                <a:off x="5148360" y="2708280"/>
                <a:ext cx="2016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v</m:t>
                    </m:r>
                    <m:r>
                      <m:t xml:space="preserve">×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3" name="组合 19"/>
          <p:cNvGrpSpPr/>
          <p:nvPr/>
        </p:nvGrpSpPr>
        <p:grpSpPr>
          <a:xfrm>
            <a:off x="1332000" y="4581360"/>
            <a:ext cx="6624720" cy="581400"/>
            <a:chOff x="1332000" y="4581360"/>
            <a:chExt cx="6624720" cy="581400"/>
          </a:xfrm>
        </p:grpSpPr>
        <p:sp>
          <p:nvSpPr>
            <p:cNvPr id="314" name="Text Box 17"/>
            <p:cNvSpPr/>
            <p:nvPr/>
          </p:nvSpPr>
          <p:spPr>
            <a:xfrm>
              <a:off x="1332000" y="4581360"/>
              <a:ext cx="66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运动正电荷                  三者之间符合右手螺旋关系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Object 18"/>
                <p:cNvSpPr txBox="1"/>
                <p:nvPr/>
              </p:nvSpPr>
              <p:spPr>
                <a:xfrm>
                  <a:off x="3492000" y="4581360"/>
                  <a:ext cx="186696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、</m:t>
                      </m:r>
                      <m:r>
                        <m:t xml:space="preserve">B</m:t>
                      </m:r>
                      <m:r>
                        <m:t xml:space="preserve">、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285920" y="14292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 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84360" y="93744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铁的磁场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755640" y="1566720"/>
            <a:ext cx="6688080" cy="54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磁性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吸引铁、钴、镍等物质的性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682560" y="2357280"/>
            <a:ext cx="8461440" cy="54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磁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磁性最强的区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磁北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磁南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8"/>
          <p:cNvGrpSpPr/>
          <p:nvPr/>
        </p:nvGrpSpPr>
        <p:grpSpPr>
          <a:xfrm>
            <a:off x="901800" y="4005360"/>
            <a:ext cx="2856600" cy="520560"/>
            <a:chOff x="901800" y="4005360"/>
            <a:chExt cx="2856600" cy="520560"/>
          </a:xfrm>
        </p:grpSpPr>
        <p:grpSp>
          <p:nvGrpSpPr>
            <p:cNvPr id="136" name="Group 29"/>
            <p:cNvGrpSpPr/>
            <p:nvPr/>
          </p:nvGrpSpPr>
          <p:grpSpPr>
            <a:xfrm>
              <a:off x="1303200" y="4111200"/>
              <a:ext cx="1881720" cy="211320"/>
              <a:chOff x="1303200" y="4111200"/>
              <a:chExt cx="1881720" cy="211320"/>
            </a:xfrm>
          </p:grpSpPr>
          <p:sp>
            <p:nvSpPr>
              <p:cNvPr id="137" name="Rectangle 30"/>
              <p:cNvSpPr/>
              <p:nvPr/>
            </p:nvSpPr>
            <p:spPr>
              <a:xfrm>
                <a:off x="1303200" y="4111200"/>
                <a:ext cx="941040" cy="21132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1"/>
              <p:cNvSpPr/>
              <p:nvPr/>
            </p:nvSpPr>
            <p:spPr>
              <a:xfrm>
                <a:off x="2244240" y="4111200"/>
                <a:ext cx="940680" cy="2113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32"/>
            <p:cNvSpPr/>
            <p:nvPr/>
          </p:nvSpPr>
          <p:spPr>
            <a:xfrm>
              <a:off x="901800" y="4005360"/>
              <a:ext cx="378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3"/>
            <p:cNvSpPr/>
            <p:nvPr/>
          </p:nvSpPr>
          <p:spPr>
            <a:xfrm>
              <a:off x="3321720" y="4005360"/>
              <a:ext cx="436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34"/>
          <p:cNvSpPr/>
          <p:nvPr/>
        </p:nvSpPr>
        <p:spPr>
          <a:xfrm>
            <a:off x="75564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极不可分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磁单极”不存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5" descr="7-6"/>
          <p:cNvPicPr/>
          <p:nvPr/>
        </p:nvPicPr>
        <p:blipFill>
          <a:blip r:embed="rId1"/>
          <a:stretch/>
        </p:blipFill>
        <p:spPr>
          <a:xfrm>
            <a:off x="5003640" y="2997360"/>
            <a:ext cx="3032280" cy="2447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7"/>
          <p:cNvSpPr/>
          <p:nvPr/>
        </p:nvSpPr>
        <p:spPr>
          <a:xfrm>
            <a:off x="5435640" y="55166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球是一个巨大的永磁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285920" y="14292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磁 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27160" y="5489640"/>
            <a:ext cx="18288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    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3000240" y="5429160"/>
            <a:ext cx="3097080" cy="720720"/>
            <a:chOff x="3000240" y="5429160"/>
            <a:chExt cx="3097080" cy="720720"/>
          </a:xfrm>
        </p:grpSpPr>
        <p:sp>
          <p:nvSpPr>
            <p:cNvPr id="147" name="Rectangle 6"/>
            <p:cNvSpPr/>
            <p:nvPr/>
          </p:nvSpPr>
          <p:spPr>
            <a:xfrm>
              <a:off x="3973320" y="5429160"/>
              <a:ext cx="1150920" cy="720720"/>
            </a:xfrm>
            <a:prstGeom prst="rect">
              <a:avLst/>
            </a:prstGeom>
            <a:gradFill rotWithShape="0">
              <a:gsLst>
                <a:gs pos="0">
                  <a:srgbClr val="ffe1ff"/>
                </a:gs>
                <a:gs pos="50000">
                  <a:srgbClr val="ffffff"/>
                </a:gs>
                <a:gs pos="100000">
                  <a:srgbClr val="ffe1ff"/>
                </a:gs>
              </a:gsLst>
              <a:lin ang="5400000"/>
            </a:gra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4062240" y="5519520"/>
              <a:ext cx="16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磁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8"/>
            <p:cNvSpPr/>
            <p:nvPr/>
          </p:nvSpPr>
          <p:spPr>
            <a:xfrm>
              <a:off x="5300280" y="5699160"/>
              <a:ext cx="797040" cy="180720"/>
            </a:xfrm>
            <a:prstGeom prst="leftRightArrow">
              <a:avLst>
                <a:gd name="adj1" fmla="val 50000"/>
                <a:gd name="adj2" fmla="val 88146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3000240" y="5699160"/>
              <a:ext cx="796680" cy="180720"/>
            </a:xfrm>
            <a:prstGeom prst="leftRightArrow">
              <a:avLst>
                <a:gd name="adj1" fmla="val 50000"/>
                <a:gd name="adj2" fmla="val 88106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0"/>
          <p:cNvSpPr/>
          <p:nvPr/>
        </p:nvSpPr>
        <p:spPr>
          <a:xfrm>
            <a:off x="6200640" y="5479920"/>
            <a:ext cx="18288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     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571680" y="4357800"/>
            <a:ext cx="8208720" cy="54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磁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磁极间存在相互作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号相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号相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3" descr="T12103"/>
          <p:cNvPicPr/>
          <p:nvPr/>
        </p:nvPicPr>
        <p:blipFill>
          <a:blip r:embed="rId1"/>
          <a:stretch/>
        </p:blipFill>
        <p:spPr>
          <a:xfrm>
            <a:off x="395280" y="1484280"/>
            <a:ext cx="3745080" cy="21607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grpSp>
        <p:nvGrpSpPr>
          <p:cNvPr id="154" name="Group 45"/>
          <p:cNvGrpSpPr/>
          <p:nvPr/>
        </p:nvGrpSpPr>
        <p:grpSpPr>
          <a:xfrm>
            <a:off x="4799160" y="1933560"/>
            <a:ext cx="1904760" cy="914040"/>
            <a:chOff x="4799160" y="1933560"/>
            <a:chExt cx="1904760" cy="914040"/>
          </a:xfrm>
        </p:grpSpPr>
        <p:sp>
          <p:nvSpPr>
            <p:cNvPr id="155" name="AutoShape 5"/>
            <p:cNvSpPr/>
            <p:nvPr/>
          </p:nvSpPr>
          <p:spPr>
            <a:xfrm>
              <a:off x="4799160" y="2441160"/>
              <a:ext cx="1904760" cy="406440"/>
            </a:xfrm>
            <a:prstGeom prst="cube">
              <a:avLst>
                <a:gd name="adj" fmla="val 62893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5572800" y="2441160"/>
              <a:ext cx="1125720" cy="406440"/>
            </a:xfrm>
            <a:prstGeom prst="cube">
              <a:avLst>
                <a:gd name="adj" fmla="val 62893"/>
              </a:avLst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5156280" y="1933560"/>
              <a:ext cx="371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6227640" y="1933560"/>
              <a:ext cx="400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Bookman Old Style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55"/>
          <p:cNvGrpSpPr/>
          <p:nvPr/>
        </p:nvGrpSpPr>
        <p:grpSpPr>
          <a:xfrm>
            <a:off x="6942240" y="2085840"/>
            <a:ext cx="1953720" cy="944640"/>
            <a:chOff x="6942240" y="2085840"/>
            <a:chExt cx="1953720" cy="944640"/>
          </a:xfrm>
        </p:grpSpPr>
        <p:sp>
          <p:nvSpPr>
            <p:cNvPr id="160" name="AutoShape 9"/>
            <p:cNvSpPr/>
            <p:nvPr/>
          </p:nvSpPr>
          <p:spPr>
            <a:xfrm rot="16920000">
              <a:off x="7604280" y="2135880"/>
              <a:ext cx="96840" cy="6400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0"/>
            <p:cNvSpPr/>
            <p:nvPr/>
          </p:nvSpPr>
          <p:spPr>
            <a:xfrm flipH="1" rot="6120000">
              <a:off x="8195400" y="2243880"/>
              <a:ext cx="95400" cy="641160"/>
            </a:xfrm>
            <a:prstGeom prst="triangle">
              <a:avLst>
                <a:gd name="adj" fmla="val 49995"/>
              </a:avLst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7337520" y="2778120"/>
              <a:ext cx="1162080" cy="2523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2"/>
            <p:cNvSpPr/>
            <p:nvPr/>
          </p:nvSpPr>
          <p:spPr>
            <a:xfrm flipV="1">
              <a:off x="7858080" y="2570040"/>
              <a:ext cx="119160" cy="35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99" y="21600"/>
                  </a:lnTo>
                  <a:lnTo>
                    <a:pt x="108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rc 13"/>
            <p:cNvSpPr/>
            <p:nvPr/>
          </p:nvSpPr>
          <p:spPr>
            <a:xfrm>
              <a:off x="6942240" y="2201760"/>
              <a:ext cx="390240" cy="260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600"/>
                  </a:moveTo>
                  <a:cubicBezTo>
                    <a:pt x="0" y="9699"/>
                    <a:pt x="9625" y="41"/>
                    <a:pt x="21525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99"/>
                    <a:pt x="9625" y="41"/>
                    <a:pt x="21525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4"/>
            <p:cNvSpPr/>
            <p:nvPr/>
          </p:nvSpPr>
          <p:spPr>
            <a:xfrm rot="10800000">
              <a:off x="8505360" y="2514240"/>
              <a:ext cx="390600" cy="260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600"/>
                  </a:moveTo>
                  <a:cubicBezTo>
                    <a:pt x="0" y="9699"/>
                    <a:pt x="9625" y="41"/>
                    <a:pt x="21525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99"/>
                    <a:pt x="9625" y="41"/>
                    <a:pt x="21525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5"/>
            <p:cNvSpPr/>
            <p:nvPr/>
          </p:nvSpPr>
          <p:spPr>
            <a:xfrm>
              <a:off x="7401960" y="2085840"/>
              <a:ext cx="339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8230320" y="2273040"/>
              <a:ext cx="365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247760" y="158760"/>
            <a:ext cx="49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电流的磁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3"/>
          <p:cNvGrpSpPr/>
          <p:nvPr/>
        </p:nvGrpSpPr>
        <p:grpSpPr>
          <a:xfrm>
            <a:off x="2168640" y="2368080"/>
            <a:ext cx="3954240" cy="2884320"/>
            <a:chOff x="2168640" y="2368080"/>
            <a:chExt cx="3954240" cy="2884320"/>
          </a:xfrm>
        </p:grpSpPr>
        <p:grpSp>
          <p:nvGrpSpPr>
            <p:cNvPr id="170" name="Group 7"/>
            <p:cNvGrpSpPr/>
            <p:nvPr/>
          </p:nvGrpSpPr>
          <p:grpSpPr>
            <a:xfrm>
              <a:off x="3745080" y="3948480"/>
              <a:ext cx="1555200" cy="1123200"/>
              <a:chOff x="3745080" y="3948480"/>
              <a:chExt cx="1555200" cy="1123200"/>
            </a:xfrm>
          </p:grpSpPr>
          <p:sp>
            <p:nvSpPr>
              <p:cNvPr id="171" name="AutoShape 8"/>
              <p:cNvSpPr/>
              <p:nvPr/>
            </p:nvSpPr>
            <p:spPr>
              <a:xfrm rot="3463800">
                <a:off x="4735800" y="3871440"/>
                <a:ext cx="277200" cy="83232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9"/>
              <p:cNvSpPr/>
              <p:nvPr/>
            </p:nvSpPr>
            <p:spPr>
              <a:xfrm flipV="1" rot="3463800">
                <a:off x="4032360" y="4315680"/>
                <a:ext cx="277200" cy="8323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组合 32"/>
            <p:cNvGrpSpPr/>
            <p:nvPr/>
          </p:nvGrpSpPr>
          <p:grpSpPr>
            <a:xfrm>
              <a:off x="2168640" y="2368080"/>
              <a:ext cx="3954240" cy="2884320"/>
              <a:chOff x="2168640" y="2368080"/>
              <a:chExt cx="3954240" cy="2884320"/>
            </a:xfrm>
          </p:grpSpPr>
          <p:grpSp>
            <p:nvGrpSpPr>
              <p:cNvPr id="174" name="Group 14"/>
              <p:cNvGrpSpPr/>
              <p:nvPr/>
            </p:nvGrpSpPr>
            <p:grpSpPr>
              <a:xfrm>
                <a:off x="4037400" y="4419720"/>
                <a:ext cx="1039680" cy="832680"/>
                <a:chOff x="4037400" y="4419720"/>
                <a:chExt cx="1039680" cy="832680"/>
              </a:xfrm>
            </p:grpSpPr>
            <p:grpSp>
              <p:nvGrpSpPr>
                <p:cNvPr id="175" name="Group 13"/>
                <p:cNvGrpSpPr/>
                <p:nvPr/>
              </p:nvGrpSpPr>
              <p:grpSpPr>
                <a:xfrm>
                  <a:off x="4037400" y="4975200"/>
                  <a:ext cx="1039680" cy="277200"/>
                  <a:chOff x="4037400" y="4975200"/>
                  <a:chExt cx="1039680" cy="277200"/>
                </a:xfrm>
              </p:grpSpPr>
              <p:sp>
                <p:nvSpPr>
                  <p:cNvPr id="176" name="Oval 12"/>
                  <p:cNvSpPr/>
                  <p:nvPr/>
                </p:nvSpPr>
                <p:spPr>
                  <a:xfrm>
                    <a:off x="4037400" y="4975200"/>
                    <a:ext cx="1039680" cy="2772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38160">
                    <a:solidFill>
                      <a:srgbClr val="0fef7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Oval 11"/>
                  <p:cNvSpPr/>
                  <p:nvPr/>
                </p:nvSpPr>
                <p:spPr>
                  <a:xfrm>
                    <a:off x="4152960" y="4975200"/>
                    <a:ext cx="808200" cy="184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38160">
                    <a:solidFill>
                      <a:srgbClr val="0fef7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" name="AutoShape 10"/>
                <p:cNvSpPr/>
                <p:nvPr/>
              </p:nvSpPr>
              <p:spPr>
                <a:xfrm>
                  <a:off x="4453560" y="4419720"/>
                  <a:ext cx="207720" cy="64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323"/>
              <p:cNvGrpSpPr/>
              <p:nvPr/>
            </p:nvGrpSpPr>
            <p:grpSpPr>
              <a:xfrm>
                <a:off x="3917880" y="3849480"/>
                <a:ext cx="1185120" cy="1324800"/>
                <a:chOff x="3917880" y="3849480"/>
                <a:chExt cx="1185120" cy="1324800"/>
              </a:xfrm>
            </p:grpSpPr>
            <p:sp>
              <p:nvSpPr>
                <p:cNvPr id="180" name="AutoShape 324"/>
                <p:cNvSpPr/>
                <p:nvPr/>
              </p:nvSpPr>
              <p:spPr>
                <a:xfrm rot="19188600">
                  <a:off x="4121280" y="3858840"/>
                  <a:ext cx="300960" cy="74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AutoShape 325"/>
                <p:cNvSpPr/>
                <p:nvPr/>
              </p:nvSpPr>
              <p:spPr>
                <a:xfrm flipV="1" rot="19188600">
                  <a:off x="4598280" y="4424040"/>
                  <a:ext cx="300960" cy="74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2"/>
              <p:cNvSpPr/>
              <p:nvPr/>
            </p:nvSpPr>
            <p:spPr>
              <a:xfrm flipV="1">
                <a:off x="2168640" y="2368080"/>
                <a:ext cx="3954240" cy="2223000"/>
              </a:xfrm>
              <a:prstGeom prst="line">
                <a:avLst/>
              </a:prstGeom>
              <a:ln w="572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328"/>
              <p:cNvGrpSpPr/>
              <p:nvPr/>
            </p:nvGrpSpPr>
            <p:grpSpPr>
              <a:xfrm>
                <a:off x="3000960" y="2854440"/>
                <a:ext cx="1664640" cy="1272960"/>
                <a:chOff x="3000960" y="2854440"/>
                <a:chExt cx="1664640" cy="1272960"/>
              </a:xfrm>
            </p:grpSpPr>
            <p:sp>
              <p:nvSpPr>
                <p:cNvPr id="184" name="Line 326"/>
                <p:cNvSpPr/>
                <p:nvPr/>
              </p:nvSpPr>
              <p:spPr>
                <a:xfrm flipV="1">
                  <a:off x="3000960" y="3201480"/>
                  <a:ext cx="1664640" cy="925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327"/>
                <p:cNvSpPr/>
                <p:nvPr/>
              </p:nvSpPr>
              <p:spPr>
                <a:xfrm>
                  <a:off x="3291840" y="2854440"/>
                  <a:ext cx="31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2060"/>
                      </a:solidFill>
                      <a:latin typeface="Times New Roman"/>
                    </a:rPr>
                    <a:t>I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右弧形箭头 30"/>
              <p:cNvSpPr/>
              <p:nvPr/>
            </p:nvSpPr>
            <p:spPr>
              <a:xfrm flipV="1" rot="19032000">
                <a:off x="5088240" y="3719880"/>
                <a:ext cx="296280" cy="589320"/>
              </a:xfrm>
              <a:custGeom>
                <a:avLst/>
                <a:gdLst>
                  <a:gd name="textAreaLeft" fmla="*/ 39600 w 296280"/>
                  <a:gd name="textAreaRight" fmla="*/ 256680 w 296280"/>
                  <a:gd name="textAreaTop" fmla="*/ 122400 h 589320"/>
                  <a:gd name="textAreaBottom" fmla="*/ 433800 h 58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8987" stAng="-5400000" swAng="5400000"/>
                    <a:lnTo>
                      <a:pt x="21600" y="11405"/>
                    </a:lnTo>
                    <a:arcTo wR="21600" hR="8987" stAng="0" swAng="3490555"/>
                    <a:lnTo>
                      <a:pt x="5400" y="21315"/>
                    </a:lnTo>
                    <a:lnTo>
                      <a:pt x="0" y="19182"/>
                    </a:lnTo>
                    <a:lnTo>
                      <a:pt x="5400" y="16479"/>
                    </a:lnTo>
                    <a:lnTo>
                      <a:pt x="5400" y="17688"/>
                    </a:lnTo>
                    <a:arcTo wR="21600" hR="8987" stAng="3490555" swAng="-3296578"/>
                    <a:lnTo>
                      <a:pt x="21404" y="10196"/>
                    </a:lnTo>
                    <a:arcTo wR="21600" hR="8987" stAng="-193978" swAng="-5206022"/>
                    <a:close/>
                  </a:path>
                  <a:path fill="darkenLess" w="21600" h="21600">
                    <a:moveTo>
                      <a:pt x="0" y="0"/>
                    </a:moveTo>
                    <a:arcTo wR="21600" hR="8987" stAng="-5400000" swAng="5400000"/>
                    <a:lnTo>
                      <a:pt x="21600" y="11405"/>
                    </a:lnTo>
                    <a:arcTo wR="21600" hR="8987" stAng="0" swAng="-193978"/>
                    <a:lnTo>
                      <a:pt x="21404" y="10196"/>
                    </a:lnTo>
                    <a:arcTo wR="21600" hR="8987" stAng="-193978" swAng="-5206022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右弧形箭头 31"/>
              <p:cNvSpPr/>
              <p:nvPr/>
            </p:nvSpPr>
            <p:spPr>
              <a:xfrm flipV="1" rot="8757600">
                <a:off x="3668400" y="4567680"/>
                <a:ext cx="301680" cy="572760"/>
              </a:xfrm>
              <a:custGeom>
                <a:avLst/>
                <a:gdLst>
                  <a:gd name="textAreaLeft" fmla="*/ 40320 w 301680"/>
                  <a:gd name="textAreaRight" fmla="*/ 261360 w 301680"/>
                  <a:gd name="textAreaTop" fmla="*/ 117720 h 572760"/>
                  <a:gd name="textAreaBottom" fmla="*/ 420840 h 57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8903" stAng="-5400000" swAng="5400000"/>
                    <a:lnTo>
                      <a:pt x="21600" y="11433"/>
                    </a:lnTo>
                    <a:arcTo wR="21600" hR="8903" stAng="0" swAng="3476060"/>
                    <a:lnTo>
                      <a:pt x="5400" y="21317"/>
                    </a:lnTo>
                    <a:lnTo>
                      <a:pt x="0" y="19070"/>
                    </a:lnTo>
                    <a:lnTo>
                      <a:pt x="5400" y="16257"/>
                    </a:lnTo>
                    <a:lnTo>
                      <a:pt x="5400" y="17522"/>
                    </a:lnTo>
                    <a:arcTo wR="21600" hR="8903" stAng="3476060" swAng="-3272902"/>
                    <a:lnTo>
                      <a:pt x="21381" y="10168"/>
                    </a:lnTo>
                    <a:arcTo wR="21600" hR="8903" stAng="-203158" swAng="-5196842"/>
                    <a:close/>
                  </a:path>
                  <a:path fill="darkenLess" w="21600" h="21600">
                    <a:moveTo>
                      <a:pt x="0" y="0"/>
                    </a:moveTo>
                    <a:arcTo wR="21600" hR="8903" stAng="-5400000" swAng="5400000"/>
                    <a:lnTo>
                      <a:pt x="21600" y="11433"/>
                    </a:lnTo>
                    <a:arcTo wR="21600" hR="8903" stAng="0" swAng="-203158"/>
                    <a:lnTo>
                      <a:pt x="21381" y="10168"/>
                    </a:lnTo>
                    <a:arcTo wR="21600" hR="8903" stAng="-203158" swAng="-5196842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Rectangle 1"/>
          <p:cNvSpPr/>
          <p:nvPr/>
        </p:nvSpPr>
        <p:spPr>
          <a:xfrm>
            <a:off x="714240" y="85320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A.</a:t>
            </a:r>
            <a:r>
              <a:rPr b="1" lang="zh-CN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奥斯特实验</a:t>
            </a:r>
            <a:r>
              <a:rPr b="1" lang="en-US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619200" y="1378080"/>
            <a:ext cx="865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050e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5050e"/>
                </a:solidFill>
                <a:latin typeface="Times New Roman"/>
                <a:ea typeface="宋体"/>
              </a:rPr>
              <a:t>1820</a:t>
            </a:r>
            <a:r>
              <a:rPr b="1" lang="zh-CN" sz="2800" spc="-1" strike="noStrike">
                <a:solidFill>
                  <a:srgbClr val="05050e"/>
                </a:solidFill>
                <a:latin typeface="Times New Roman"/>
                <a:ea typeface="宋体"/>
              </a:rPr>
              <a:t>年，丹麦科学家奥斯特发表了自己多年的研究成果，即著名的奥斯</a:t>
            </a:r>
            <a:r>
              <a:rPr b="1" lang="zh-CN" sz="2800" spc="-1" strike="noStrike">
                <a:solidFill>
                  <a:srgbClr val="05050e"/>
                </a:solidFill>
                <a:latin typeface="Calibri"/>
                <a:ea typeface="宋体"/>
              </a:rPr>
              <a:t>特实验</a:t>
            </a:r>
            <a:r>
              <a:rPr b="1" lang="en-US" sz="2800" spc="-1" strike="noStrike">
                <a:solidFill>
                  <a:srgbClr val="05050e"/>
                </a:solidFill>
                <a:latin typeface="Calibri"/>
                <a:ea typeface="宋体"/>
              </a:rPr>
              <a:t>.</a:t>
            </a:r>
            <a:r>
              <a:rPr b="1" lang="en-US" sz="2800" spc="-1" strike="noStrike">
                <a:solidFill>
                  <a:srgbClr val="05050e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6"/>
          <p:cNvSpPr/>
          <p:nvPr/>
        </p:nvSpPr>
        <p:spPr>
          <a:xfrm>
            <a:off x="1376280" y="536256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在通电导线的附近小磁针会发生偏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6059520" y="4194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电流 </a:t>
            </a:r>
            <a:r>
              <a:rPr b="1" lang="zh-CN" sz="2000" spc="-1" strike="noStrike">
                <a:solidFill>
                  <a:srgbClr val="0000ff"/>
                </a:solidFill>
                <a:latin typeface="Symbol"/>
                <a:ea typeface="Symbol"/>
              </a:rPr>
              <a:t>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磁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3"/>
          <p:cNvSpPr/>
          <p:nvPr/>
        </p:nvSpPr>
        <p:spPr>
          <a:xfrm>
            <a:off x="2276640" y="82404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B.</a:t>
            </a:r>
            <a:r>
              <a:rPr b="1" lang="zh-CN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安培实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两段平行放置的并两端固定的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2081160" y="1444680"/>
            <a:ext cx="4673520" cy="3968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168120" y="5612760"/>
            <a:ext cx="880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两导线中分别通以相同方向的电流时，两导线相互吸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通以相反方向的电流时，两导线相互排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6790680" y="2998800"/>
            <a:ext cx="118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电流 </a:t>
            </a:r>
            <a:r>
              <a:rPr b="1" lang="zh-CN" sz="2000" spc="-1" strike="noStrike">
                <a:solidFill>
                  <a:srgbClr val="0000ff"/>
                </a:solidFill>
                <a:latin typeface="Symbol"/>
                <a:ea typeface="Symbol"/>
              </a:rPr>
              <a:t>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电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 flipV="1">
            <a:off x="3573360" y="1836720"/>
            <a:ext cx="1513080" cy="1511280"/>
          </a:xfrm>
          <a:custGeom>
            <a:avLst/>
            <a:gdLst>
              <a:gd name="textAreaLeft" fmla="*/ 27720 w 1513080"/>
              <a:gd name="textAreaRight" fmla="*/ 1485360 w 1513080"/>
              <a:gd name="textAreaTop" fmla="*/ 0 h 1511280"/>
              <a:gd name="textAreaBottom" fmla="*/ 866160 h 1511280"/>
            </a:gdLst>
            <a:ahLst/>
            <a:rect l="textAreaLeft" t="textAreaTop" r="textAreaRight" b="textAreaBottom"/>
            <a:pathLst>
              <a:path w="21600" h="21600">
                <a:moveTo>
                  <a:pt x="4941" y="10709"/>
                </a:moveTo>
                <a:cubicBezTo>
                  <a:pt x="4991" y="7509"/>
                  <a:pt x="7599" y="4940"/>
                  <a:pt x="10800" y="4941"/>
                </a:cubicBezTo>
                <a:cubicBezTo>
                  <a:pt x="14000" y="4941"/>
                  <a:pt x="16608" y="7509"/>
                  <a:pt x="16658" y="10709"/>
                </a:cubicBezTo>
                <a:lnTo>
                  <a:pt x="21598" y="10632"/>
                </a:lnTo>
                <a:cubicBezTo>
                  <a:pt x="21507" y="4733"/>
                  <a:pt x="16699" y="-1"/>
                  <a:pt x="10799" y="0"/>
                </a:cubicBezTo>
                <a:cubicBezTo>
                  <a:pt x="4900" y="0"/>
                  <a:pt x="92" y="4733"/>
                  <a:pt x="1" y="10632"/>
                </a:cubicBezTo>
                <a:lnTo>
                  <a:pt x="4941" y="10709"/>
                </a:lnTo>
                <a:close/>
              </a:path>
            </a:pathLst>
          </a:cu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381560" y="1193760"/>
            <a:ext cx="360360" cy="12970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AutoShape 4"/>
          <p:cNvGrpSpPr/>
          <p:nvPr/>
        </p:nvGrpSpPr>
        <p:grpSpPr>
          <a:xfrm>
            <a:off x="2414520" y="1182600"/>
            <a:ext cx="3468600" cy="513000"/>
            <a:chOff x="2414520" y="1182600"/>
            <a:chExt cx="3468600" cy="513000"/>
          </a:xfrm>
        </p:grpSpPr>
        <p:pic>
          <p:nvPicPr>
            <p:cNvPr id="199" name="AutoShape 4" descr=""/>
            <p:cNvPicPr/>
            <p:nvPr/>
          </p:nvPicPr>
          <p:blipFill>
            <a:blip r:embed="rId1"/>
            <a:stretch/>
          </p:blipFill>
          <p:spPr>
            <a:xfrm>
              <a:off x="2414520" y="1182600"/>
              <a:ext cx="346860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494080" y="1260360"/>
              <a:ext cx="33098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41"/>
          <p:cNvSpPr/>
          <p:nvPr/>
        </p:nvSpPr>
        <p:spPr>
          <a:xfrm>
            <a:off x="3870360" y="1611360"/>
            <a:ext cx="360360" cy="129708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100000">
                <a:srgbClr val="ff3300">
                  <a:alpha val="77254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2"/>
          <p:cNvSpPr/>
          <p:nvPr/>
        </p:nvSpPr>
        <p:spPr>
          <a:xfrm>
            <a:off x="2637000" y="1295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5661000" y="1295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44"/>
          <p:cNvSpPr/>
          <p:nvPr/>
        </p:nvSpPr>
        <p:spPr>
          <a:xfrm>
            <a:off x="2637000" y="14032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5"/>
          <p:cNvSpPr/>
          <p:nvPr/>
        </p:nvSpPr>
        <p:spPr>
          <a:xfrm>
            <a:off x="2637000" y="14032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46"/>
          <p:cNvSpPr/>
          <p:nvPr/>
        </p:nvSpPr>
        <p:spPr>
          <a:xfrm>
            <a:off x="2637000" y="14032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7"/>
          <p:cNvSpPr/>
          <p:nvPr/>
        </p:nvSpPr>
        <p:spPr>
          <a:xfrm>
            <a:off x="2637000" y="14018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8"/>
          <p:cNvSpPr/>
          <p:nvPr/>
        </p:nvSpPr>
        <p:spPr>
          <a:xfrm>
            <a:off x="2637000" y="14018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9"/>
          <p:cNvSpPr/>
          <p:nvPr/>
        </p:nvSpPr>
        <p:spPr>
          <a:xfrm>
            <a:off x="2637000" y="14032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4"/>
          <p:cNvSpPr/>
          <p:nvPr/>
        </p:nvSpPr>
        <p:spPr>
          <a:xfrm>
            <a:off x="2997360" y="33415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运动电荷</a:t>
            </a:r>
            <a:r>
              <a:rPr b="1" lang="zh-CN" sz="2000" spc="-1" strike="noStrike">
                <a:solidFill>
                  <a:srgbClr val="0000ff"/>
                </a:solidFill>
                <a:latin typeface="Symbol"/>
                <a:ea typeface="Symbol"/>
              </a:rPr>
              <a:t>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磁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3"/>
          <p:cNvSpPr/>
          <p:nvPr/>
        </p:nvSpPr>
        <p:spPr>
          <a:xfrm>
            <a:off x="857160" y="4183200"/>
            <a:ext cx="7064640" cy="9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现象与电荷的运动有着密切的关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动电荷既能产生磁效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受到磁力的作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1084320" y="178560"/>
            <a:ext cx="37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磁铁对运动电荷的作用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0.32292 -1.85185E-006 E">
                                      <p:cBhvr>
                                        <p:cTn id="140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6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-1.85185E-006 L 0.32292 -1.85185E-006 E">
                                      <p:cBhvr>
                                        <p:cTn id="142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63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61111E-006 -1.85185E-006 L 0.32292 -1.85185E-006 E">
                                      <p:cBhvr>
                                        <p:cTn id="144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C 0.01424 0.00023 0.05347 -0.00139 0.08507 0.0007 C 0.11771 0.0044 0.15903 0.00718 0.18924 0.01273 C 0.21927 0.01852 0.25035 0.02963 0.26632 0.03403 E">
                                      <p:cBhvr>
                                        <p:cTn id="170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1.85185E-006 C 0.01424 0.00023 0.05347 -0.00139 0.08507 0.0007 C 0.11771 0.0044 0.15903 0.00718 0.18924 0.01273 C 0.21927 0.01852 0.25035 0.02963 0.26632 0.03403 E">
                                      <p:cBhvr>
                                        <p:cTn id="172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5.55556E-007 -1.85185E-006 C 0.01424 0.00023 0.05347 -0.00139 0.08507 0.0007 C 0.11771 0.0044 0.15903 0.00718 0.18924 0.01273 C 0.21927 0.01852 0.25035 0.02963 0.26632 0.03403 E">
                                      <p:cBhvr>
                                        <p:cTn id="174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1084320" y="178560"/>
            <a:ext cx="37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磁铁对电流的作用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2222640" y="2097000"/>
            <a:ext cx="4698720" cy="32241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365040" y="1251000"/>
            <a:ext cx="85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50e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5050e"/>
                </a:solidFill>
                <a:latin typeface="Times New Roman"/>
                <a:ea typeface="宋体"/>
              </a:rPr>
              <a:t>把一段直导线水平悬挂在马蹄形磁铁的两极中间，当导线通过电</a:t>
            </a:r>
            <a:r>
              <a:rPr b="1" lang="zh-CN" sz="2800" spc="-1" strike="noStrike">
                <a:solidFill>
                  <a:srgbClr val="05050e"/>
                </a:solidFill>
                <a:latin typeface="Calibri"/>
                <a:ea typeface="宋体"/>
              </a:rPr>
              <a:t>流时，导线就会发生水平方向移动</a:t>
            </a:r>
            <a:r>
              <a:rPr b="1" lang="en-US" sz="2800" spc="-1" strike="noStrike">
                <a:solidFill>
                  <a:srgbClr val="05050e"/>
                </a:solidFill>
                <a:latin typeface="Calibri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143080" y="5563440"/>
            <a:ext cx="46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华文楷体"/>
                <a:ea typeface="华文楷体"/>
              </a:rPr>
              <a:t>磁铁也可给电流施加作用力</a:t>
            </a:r>
            <a:r>
              <a:rPr b="1" lang="en-US" sz="2800" spc="-1" strike="noStrike">
                <a:solidFill>
                  <a:srgbClr val="3366ff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1125360" y="272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现象的起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187280" y="1368360"/>
            <a:ext cx="1828800" cy="1169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动电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电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3060720" y="1308240"/>
            <a:ext cx="3096360" cy="720360"/>
            <a:chOff x="3060720" y="1308240"/>
            <a:chExt cx="3096360" cy="720360"/>
          </a:xfrm>
        </p:grpSpPr>
        <p:sp>
          <p:nvSpPr>
            <p:cNvPr id="220" name="Rectangle 9"/>
            <p:cNvSpPr/>
            <p:nvPr/>
          </p:nvSpPr>
          <p:spPr>
            <a:xfrm>
              <a:off x="4034160" y="1308240"/>
              <a:ext cx="1149840" cy="720360"/>
            </a:xfrm>
            <a:prstGeom prst="rect">
              <a:avLst/>
            </a:prstGeom>
            <a:gradFill rotWithShape="0">
              <a:gsLst>
                <a:gs pos="0">
                  <a:srgbClr val="ffe1ff"/>
                </a:gs>
                <a:gs pos="50000">
                  <a:srgbClr val="ffffff"/>
                </a:gs>
                <a:gs pos="100000">
                  <a:srgbClr val="ffe1ff"/>
                </a:gs>
              </a:gsLst>
              <a:lin ang="5400000"/>
            </a:gra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4122360" y="1397880"/>
              <a:ext cx="168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磁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1"/>
            <p:cNvSpPr/>
            <p:nvPr/>
          </p:nvSpPr>
          <p:spPr>
            <a:xfrm>
              <a:off x="5361120" y="1578240"/>
              <a:ext cx="795960" cy="180000"/>
            </a:xfrm>
            <a:prstGeom prst="leftRightArrow">
              <a:avLst>
                <a:gd name="adj1" fmla="val 50000"/>
                <a:gd name="adj2" fmla="val 88030"/>
              </a:avLst>
            </a:prstGeom>
            <a:solidFill>
              <a:srgbClr val="99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2"/>
            <p:cNvSpPr/>
            <p:nvPr/>
          </p:nvSpPr>
          <p:spPr>
            <a:xfrm>
              <a:off x="3060720" y="1578240"/>
              <a:ext cx="795960" cy="180000"/>
            </a:xfrm>
            <a:prstGeom prst="leftRightArrow">
              <a:avLst>
                <a:gd name="adj1" fmla="val 50000"/>
                <a:gd name="adj2" fmla="val 88030"/>
              </a:avLst>
            </a:prstGeom>
            <a:solidFill>
              <a:srgbClr val="99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13"/>
          <p:cNvSpPr/>
          <p:nvPr/>
        </p:nvSpPr>
        <p:spPr>
          <a:xfrm>
            <a:off x="6272280" y="1292400"/>
            <a:ext cx="1828800" cy="132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动电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电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27857"/>
          <p:cNvGrpSpPr/>
          <p:nvPr/>
        </p:nvGrpSpPr>
        <p:grpSpPr>
          <a:xfrm>
            <a:off x="587520" y="2687760"/>
            <a:ext cx="6851160" cy="1640160"/>
            <a:chOff x="587520" y="2687760"/>
            <a:chExt cx="6851160" cy="1640160"/>
          </a:xfrm>
        </p:grpSpPr>
        <p:sp>
          <p:nvSpPr>
            <p:cNvPr id="226" name="文本框 27853"/>
            <p:cNvSpPr/>
            <p:nvPr/>
          </p:nvSpPr>
          <p:spPr>
            <a:xfrm>
              <a:off x="587520" y="2687760"/>
              <a:ext cx="344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理论和实验证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27854"/>
            <p:cNvSpPr/>
            <p:nvPr/>
          </p:nvSpPr>
          <p:spPr>
            <a:xfrm>
              <a:off x="1125360" y="3210120"/>
              <a:ext cx="63133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运动的电荷（或电流）在其周围产生磁场，在磁场中的运动电荷（或电流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会受到这个场施于它的力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3"/>
          <p:cNvGrpSpPr/>
          <p:nvPr/>
        </p:nvGrpSpPr>
        <p:grpSpPr>
          <a:xfrm>
            <a:off x="547560" y="4975200"/>
            <a:ext cx="8047080" cy="605880"/>
            <a:chOff x="547560" y="4975200"/>
            <a:chExt cx="8047080" cy="605880"/>
          </a:xfrm>
        </p:grpSpPr>
        <mc:AlternateContent>
          <mc:Choice xmlns:a14="http://schemas.microsoft.com/office/drawing/2010/main" Requires="a14">
            <p:sp>
              <p:nvSpPr>
                <p:cNvPr id="229" name="Object 15"/>
                <p:cNvSpPr txBox="1"/>
                <p:nvPr/>
              </p:nvSpPr>
              <p:spPr>
                <a:xfrm>
                  <a:off x="7755840" y="5081040"/>
                  <a:ext cx="3459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文本框 27856"/>
            <p:cNvSpPr/>
            <p:nvPr/>
          </p:nvSpPr>
          <p:spPr>
            <a:xfrm>
              <a:off x="547560" y="4975200"/>
              <a:ext cx="80470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空间某点的磁场大小和方向，用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磁感应强度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来描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39"/>
          <p:cNvGrpSpPr/>
          <p:nvPr/>
        </p:nvGrpSpPr>
        <p:grpSpPr>
          <a:xfrm>
            <a:off x="1071720" y="214200"/>
            <a:ext cx="6480000" cy="601560"/>
            <a:chOff x="1071720" y="214200"/>
            <a:chExt cx="6480000" cy="601560"/>
          </a:xfrm>
        </p:grpSpPr>
        <p:sp>
          <p:nvSpPr>
            <p:cNvPr id="232" name="Text Box 3"/>
            <p:cNvSpPr/>
            <p:nvPr/>
          </p:nvSpPr>
          <p:spPr>
            <a:xfrm>
              <a:off x="1071720" y="215640"/>
              <a:ext cx="64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磁 感 强 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4"/>
                <p:cNvSpPr txBox="1"/>
                <p:nvPr/>
              </p:nvSpPr>
              <p:spPr>
                <a:xfrm>
                  <a:off x="3159360" y="214200"/>
                  <a:ext cx="46980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Text Box 5"/>
          <p:cNvSpPr/>
          <p:nvPr/>
        </p:nvSpPr>
        <p:spPr>
          <a:xfrm>
            <a:off x="395280" y="1844640"/>
            <a:ext cx="4537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带电粒子在磁场中运动所受的力与运动方向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84360" y="3141720"/>
            <a:ext cx="43192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发现带电粒子在磁场中沿某一特定直线方向运动时不受力，此直线方向与电荷无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7"/>
          <p:cNvGrpSpPr/>
          <p:nvPr/>
        </p:nvGrpSpPr>
        <p:grpSpPr>
          <a:xfrm>
            <a:off x="5181480" y="2514600"/>
            <a:ext cx="3382920" cy="3352680"/>
            <a:chOff x="5181480" y="2514600"/>
            <a:chExt cx="3382920" cy="3352680"/>
          </a:xfrm>
        </p:grpSpPr>
        <p:grpSp>
          <p:nvGrpSpPr>
            <p:cNvPr id="237" name="Group 8"/>
            <p:cNvGrpSpPr/>
            <p:nvPr/>
          </p:nvGrpSpPr>
          <p:grpSpPr>
            <a:xfrm>
              <a:off x="5181480" y="2514600"/>
              <a:ext cx="3382920" cy="3352680"/>
              <a:chOff x="5181480" y="2514600"/>
              <a:chExt cx="3382920" cy="3352680"/>
            </a:xfrm>
          </p:grpSpPr>
          <p:sp>
            <p:nvSpPr>
              <p:cNvPr id="238" name="Rectangle 9"/>
              <p:cNvSpPr/>
              <p:nvPr/>
            </p:nvSpPr>
            <p:spPr>
              <a:xfrm>
                <a:off x="5181480" y="2514600"/>
                <a:ext cx="3382920" cy="335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Group 10"/>
              <p:cNvGrpSpPr/>
              <p:nvPr/>
            </p:nvGrpSpPr>
            <p:grpSpPr>
              <a:xfrm>
                <a:off x="5316120" y="2743200"/>
                <a:ext cx="3062880" cy="3000240"/>
                <a:chOff x="5316120" y="2743200"/>
                <a:chExt cx="3062880" cy="3000240"/>
              </a:xfrm>
            </p:grpSpPr>
            <p:sp>
              <p:nvSpPr>
                <p:cNvPr id="240" name="Line 11"/>
                <p:cNvSpPr/>
                <p:nvPr/>
              </p:nvSpPr>
              <p:spPr>
                <a:xfrm>
                  <a:off x="5957640" y="4809960"/>
                  <a:ext cx="2402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2"/>
                <p:cNvSpPr/>
                <p:nvPr/>
              </p:nvSpPr>
              <p:spPr>
                <a:xfrm flipV="1">
                  <a:off x="5957640" y="2745720"/>
                  <a:ext cx="0" cy="206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3"/>
                <p:cNvSpPr/>
                <p:nvPr/>
              </p:nvSpPr>
              <p:spPr>
                <a:xfrm flipH="1">
                  <a:off x="5316120" y="4809960"/>
                  <a:ext cx="641160" cy="676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43" name="Object 14"/>
                    <p:cNvSpPr txBox="1"/>
                    <p:nvPr/>
                  </p:nvSpPr>
                  <p:spPr>
                    <a:xfrm>
                      <a:off x="8090280" y="4876560"/>
                      <a:ext cx="288720" cy="414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44" name="Object 15"/>
                    <p:cNvSpPr txBox="1"/>
                    <p:nvPr/>
                  </p:nvSpPr>
                  <p:spPr>
                    <a:xfrm>
                      <a:off x="5992920" y="2743200"/>
                      <a:ext cx="309960" cy="476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45" name="Object 16"/>
                    <p:cNvSpPr txBox="1"/>
                    <p:nvPr/>
                  </p:nvSpPr>
                  <p:spPr>
                    <a:xfrm>
                      <a:off x="5384160" y="5333760"/>
                      <a:ext cx="312840" cy="409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z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46" name="Object 17"/>
                    <p:cNvSpPr txBox="1"/>
                    <p:nvPr/>
                  </p:nvSpPr>
                  <p:spPr>
                    <a:xfrm>
                      <a:off x="5654880" y="4647960"/>
                      <a:ext cx="235080" cy="304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247" name="Object 18"/>
                <p:cNvSpPr txBox="1"/>
                <p:nvPr/>
              </p:nvSpPr>
              <p:spPr>
                <a:xfrm>
                  <a:off x="7414200" y="2629080"/>
                  <a:ext cx="101484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48" name="Group 19"/>
            <p:cNvGrpSpPr/>
            <p:nvPr/>
          </p:nvGrpSpPr>
          <p:grpSpPr>
            <a:xfrm>
              <a:off x="6940440" y="3540240"/>
              <a:ext cx="1155240" cy="498240"/>
              <a:chOff x="6940440" y="3540240"/>
              <a:chExt cx="1155240" cy="498240"/>
            </a:xfrm>
          </p:grpSpPr>
          <p:sp>
            <p:nvSpPr>
              <p:cNvPr id="249" name="Oval 20"/>
              <p:cNvSpPr/>
              <p:nvPr/>
            </p:nvSpPr>
            <p:spPr>
              <a:xfrm>
                <a:off x="6940440" y="3616200"/>
                <a:ext cx="270360" cy="304200"/>
              </a:xfrm>
              <a:prstGeom prst="ellipse">
                <a:avLst/>
              </a:prstGeom>
              <a:gradFill rotWithShape="0">
                <a:gsLst>
                  <a:gs pos="0">
                    <a:srgbClr val="ffebff"/>
                  </a:gs>
                  <a:gs pos="100000">
                    <a:srgbClr val="ff8b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21"/>
              <p:cNvSpPr/>
              <p:nvPr/>
            </p:nvSpPr>
            <p:spPr>
              <a:xfrm>
                <a:off x="6941160" y="354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22"/>
              <p:cNvSpPr/>
              <p:nvPr/>
            </p:nvSpPr>
            <p:spPr>
              <a:xfrm>
                <a:off x="7278840" y="3768480"/>
                <a:ext cx="47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2" name="Object 23"/>
                  <p:cNvSpPr txBox="1"/>
                  <p:nvPr/>
                </p:nvSpPr>
                <p:spPr>
                  <a:xfrm>
                    <a:off x="7751880" y="3540240"/>
                    <a:ext cx="34380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53" name="Group 24"/>
            <p:cNvGrpSpPr/>
            <p:nvPr/>
          </p:nvGrpSpPr>
          <p:grpSpPr>
            <a:xfrm>
              <a:off x="6060600" y="3463920"/>
              <a:ext cx="1235520" cy="536040"/>
              <a:chOff x="6060600" y="3463920"/>
              <a:chExt cx="1235520" cy="536040"/>
            </a:xfrm>
          </p:grpSpPr>
          <p:sp>
            <p:nvSpPr>
              <p:cNvPr id="254" name="Oval 25"/>
              <p:cNvSpPr/>
              <p:nvPr/>
            </p:nvSpPr>
            <p:spPr>
              <a:xfrm>
                <a:off x="6940080" y="3616200"/>
                <a:ext cx="2707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ebff"/>
                  </a:gs>
                  <a:gs pos="100000">
                    <a:srgbClr val="ff8b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26"/>
              <p:cNvSpPr/>
              <p:nvPr/>
            </p:nvSpPr>
            <p:spPr>
              <a:xfrm>
                <a:off x="6941520" y="354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6404040" y="3768840"/>
                <a:ext cx="473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7" name="Object 28"/>
                  <p:cNvSpPr txBox="1"/>
                  <p:nvPr/>
                </p:nvSpPr>
                <p:spPr>
                  <a:xfrm>
                    <a:off x="6060600" y="3463920"/>
                    <a:ext cx="34380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58" name="Group 29"/>
            <p:cNvGrpSpPr/>
            <p:nvPr/>
          </p:nvGrpSpPr>
          <p:grpSpPr>
            <a:xfrm>
              <a:off x="6060600" y="4073400"/>
              <a:ext cx="1171080" cy="498600"/>
              <a:chOff x="6060600" y="4073400"/>
              <a:chExt cx="1171080" cy="498600"/>
            </a:xfrm>
          </p:grpSpPr>
          <p:sp>
            <p:nvSpPr>
              <p:cNvPr id="259" name="Oval 30"/>
              <p:cNvSpPr/>
              <p:nvPr/>
            </p:nvSpPr>
            <p:spPr>
              <a:xfrm>
                <a:off x="6961320" y="4191120"/>
                <a:ext cx="270360" cy="304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>
                <a:off x="7007760" y="4343400"/>
                <a:ext cx="135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32"/>
              <p:cNvSpPr/>
              <p:nvPr/>
            </p:nvSpPr>
            <p:spPr>
              <a:xfrm flipH="1">
                <a:off x="6425640" y="4343400"/>
                <a:ext cx="4737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Object 33"/>
                  <p:cNvSpPr txBox="1"/>
                  <p:nvPr/>
                </p:nvSpPr>
                <p:spPr>
                  <a:xfrm>
                    <a:off x="6060600" y="4073400"/>
                    <a:ext cx="34380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63" name="Group 34"/>
            <p:cNvGrpSpPr/>
            <p:nvPr/>
          </p:nvGrpSpPr>
          <p:grpSpPr>
            <a:xfrm>
              <a:off x="6961320" y="4073400"/>
              <a:ext cx="1196280" cy="498600"/>
              <a:chOff x="6961320" y="4073400"/>
              <a:chExt cx="1196280" cy="498600"/>
            </a:xfrm>
          </p:grpSpPr>
          <p:sp>
            <p:nvSpPr>
              <p:cNvPr id="264" name="Oval 35"/>
              <p:cNvSpPr/>
              <p:nvPr/>
            </p:nvSpPr>
            <p:spPr>
              <a:xfrm>
                <a:off x="6961320" y="4190760"/>
                <a:ext cx="2707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36"/>
              <p:cNvSpPr/>
              <p:nvPr/>
            </p:nvSpPr>
            <p:spPr>
              <a:xfrm>
                <a:off x="7007760" y="4343400"/>
                <a:ext cx="1350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37"/>
              <p:cNvSpPr/>
              <p:nvPr/>
            </p:nvSpPr>
            <p:spPr>
              <a:xfrm>
                <a:off x="7278480" y="4343400"/>
                <a:ext cx="5817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7" name="Object 38"/>
                  <p:cNvSpPr txBox="1"/>
                  <p:nvPr/>
                </p:nvSpPr>
                <p:spPr>
                  <a:xfrm>
                    <a:off x="7813800" y="4073400"/>
                    <a:ext cx="34380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68" name="Text Box 109"/>
          <p:cNvSpPr/>
          <p:nvPr/>
        </p:nvSpPr>
        <p:spPr>
          <a:xfrm>
            <a:off x="1476360" y="981000"/>
            <a:ext cx="5977080" cy="5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描述磁场大小和方向的物理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39"/>
              <p:cNvSpPr txBox="1"/>
              <p:nvPr/>
            </p:nvSpPr>
            <p:spPr>
              <a:xfrm>
                <a:off x="971640" y="907920"/>
                <a:ext cx="4698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3:35:12Z</dcterms:created>
  <dc:creator>MC SYSTEM</dc:creator>
  <dc:description/>
  <dc:language>en-US</dc:language>
  <cp:lastModifiedBy>szu</cp:lastModifiedBy>
  <dcterms:modified xsi:type="dcterms:W3CDTF">2019-05-28T03:50:04Z</dcterms:modified>
  <cp:revision>34</cp:revision>
  <dc:subject/>
  <dc:title>7-3   磁场 磁感应强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6370</vt:lpwstr>
  </property>
</Properties>
</file>